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BBAF-085B-48D2-B19D-4CF159B3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2C1E-52BC-4F28-A40A-CE54727E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0DD6-86E0-4983-BDEF-4EE05089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3C15-A013-4981-9819-242B0EC5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9199-F982-43B2-8288-00F522BE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C35E-166F-4ABA-A4B5-0466C007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8011-F2EC-4C11-8F27-AEB1EE86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C0D6-E206-441A-90D9-2020F328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814B-A783-4261-9E72-D3138F56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4535-B022-4C3A-8B89-23EA380A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62EF-D7E1-4ACF-82B3-7920F4B0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7AED-49D4-42BD-B8D0-88EA35A5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8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F5FB-1511-4BD4-93C7-BA4E0415DB5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755640" y="0"/>
            <a:ext cx="7777080" cy="620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1484280"/>
            <a:ext cx="914400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simbolica rituale della Cresi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ella tradizione riscontriamo un complesso rituale comprendent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ivers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rit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’unzione dopo il battes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consignazione di croce in fronte 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signatio fronti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’imposizione delle man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 l’abbraccio o bacio di 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B. Botte: il punto di partenza è il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dono dello Spi-rito conferito con </a:t>
            </a:r>
            <a:r>
              <a:rPr b="1" lang="it-IT" sz="3200" spc="-1" strike="noStrike" u="sng">
                <a:solidFill>
                  <a:srgbClr val="ff0000"/>
                </a:solidFill>
                <a:uFillTx/>
                <a:latin typeface="Times New Roman"/>
              </a:rPr>
              <a:t>l’imposizione delle m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oiché questo dono secondo le immagini pao-line è </a:t>
            </a:r>
            <a:r>
              <a:rPr b="1" lang="it-IT" sz="3200" spc="-1" strike="noStrike" u="sng">
                <a:solidFill>
                  <a:srgbClr val="ff0000"/>
                </a:solidFill>
                <a:uFillTx/>
                <a:latin typeface="Times New Roman"/>
              </a:rPr>
              <a:t>unzione e sigill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(2Cor 1,21-22), si sono materializzate queste metafore con alcuni altri gesti simbolic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179280" y="1700280"/>
            <a:ext cx="8964720" cy="4897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Quale gesto sacramentale:                                     </a:t>
            </a:r>
            <a:r>
              <a:rPr b="1" lang="it-IT" sz="3200" spc="-1" strike="noStrike">
                <a:solidFill>
                  <a:srgbClr val="003399"/>
                </a:solidFill>
                <a:latin typeface="Times New Roman"/>
              </a:rPr>
              <a:t>unzione o imposizione delle man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aolo V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È chiaro che nell’amministrazione della Confer-mazione in Oriente e in Occidente, anche se in modo diverso, ebbe il primo posto la </a:t>
            </a:r>
            <a:r>
              <a:rPr b="1" i="1" lang="it-IT" sz="3200" spc="-1" strike="noStrike">
                <a:solidFill>
                  <a:srgbClr val="003399"/>
                </a:solidFill>
                <a:latin typeface="Times New Roman"/>
              </a:rPr>
              <a:t>crisma-zion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che comunque rappresenta </a:t>
            </a:r>
            <a:r>
              <a:rPr b="1" i="1" lang="it-IT" sz="3200" spc="-1" strike="noStrike">
                <a:solidFill>
                  <a:srgbClr val="003399"/>
                </a:solidFill>
                <a:latin typeface="Times New Roman"/>
              </a:rPr>
              <a:t>l’imposi-zione delle mani usata dagli apostol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. E poiché quell’unzione con il crisma conve-nientemente significa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’unzione spiritual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dello Spirito Santo, che viene dato ai fedeli, noi inten-diamo confermare l’esistenza e l’importanza della medesi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289080" y="3933720"/>
            <a:ext cx="8820000" cy="273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’unzione include l’imposizione delle man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’unzione avviene con un «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gno di croce sulla front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e con le parole “Ricevi il sigillo dello Spirito santo che ti è dato in dono”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a poi si dice l’«unzione sulla fronte che si fa con l’imposizione della mano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commissione per l’interpretazione dei decreti rispondeva in data 09.06.197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è necessario che il ministro della Confermazione mentre compie la crismazione,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imponga la mano sul cap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del confermando. È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fficient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la crismazione fatta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 il pollic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perché </a:t>
            </a:r>
            <a:r>
              <a:rPr b="1" lang="it-IT" sz="3200" spc="-1" strike="noStrike">
                <a:solidFill>
                  <a:srgbClr val="003399"/>
                </a:solidFill>
                <a:latin typeface="Times New Roman"/>
              </a:rPr>
              <a:t>manifesta in modo sufficiente l’imposizione della man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E il “</a:t>
            </a:r>
            <a:r>
              <a:rPr b="1" lang="it-IT" sz="3000" spc="-1" strike="noStrike">
                <a:solidFill>
                  <a:srgbClr val="000000"/>
                </a:solidFill>
                <a:latin typeface="Times New Roman"/>
              </a:rPr>
              <a:t>sigillo”a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 cosa allude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1) Dal greco </a:t>
            </a:r>
            <a:r>
              <a:rPr b="0" i="1" lang="it-IT" sz="3000" spc="-1" strike="noStrike">
                <a:solidFill>
                  <a:srgbClr val="000000"/>
                </a:solidFill>
                <a:latin typeface="Times New Roman"/>
              </a:rPr>
              <a:t>sfraghìs 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(lat. </a:t>
            </a:r>
            <a:r>
              <a:rPr b="0" i="1" lang="it-IT" sz="3000" spc="-1" strike="noStrike">
                <a:solidFill>
                  <a:srgbClr val="000000"/>
                </a:solidFill>
                <a:latin typeface="Times New Roman"/>
              </a:rPr>
              <a:t>signaculum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), il sigillo è secondo alcuni autori un termine tecnico per indi-care la </a:t>
            </a:r>
            <a:r>
              <a:rPr b="1" i="1" lang="it-IT" sz="3000" spc="-1" strike="noStrike">
                <a:solidFill>
                  <a:srgbClr val="000000"/>
                </a:solidFill>
                <a:latin typeface="Times New Roman"/>
              </a:rPr>
              <a:t>consignatio frontis</a:t>
            </a:r>
            <a:r>
              <a:rPr b="0" i="1" lang="it-IT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(il gesto che realizza l’unzione crismale col segno di croce sulla fronte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2) Per altri esso indica l’effetto spirituale e perma-nente (che “caratterizza” il cresimato per sempre) dell’unzione un sigillo interiore posto da Dio nel battezzato al pari di una circoncisione spirituale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Le due interpretazioni si richiamano vicendevolmen-te in quanto il gesto esteriore della </a:t>
            </a:r>
            <a:r>
              <a:rPr b="0" i="1" lang="it-IT" sz="3000" spc="-1" strike="noStrike">
                <a:solidFill>
                  <a:srgbClr val="000000"/>
                </a:solidFill>
                <a:latin typeface="Times New Roman"/>
              </a:rPr>
              <a:t>consignatio 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ha valore sacramentale, cioè rivela ed attua l’unzione tutta interiore dello Spirito (2Cor 1,21-22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convenienza del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rism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come materia della Cresima, in quanto mistura di olio e profum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’olio e il balsamo sono adatti a significare i concetti di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mission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e di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vigore spiritual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necessari in tale ope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an Tommaso lo deduce a partire dalla com-prensione della Cresima come «pienezza dello Spirito per ottenere la forza spirituale, che conviene all’età perfetta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’oli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significa l’unzione che Cristo ebbe dallo Spirito e che lo aprì alla vita pubblica perché ripieno di Spirito Santo e «unto di olio di leti-zia»; l’unzione è ora partecipata al cresima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alsam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ndica la dimensione missionaria di una comunità eucaristica costituita da confer-mati: caratteristica dell’uomo che ha raggiunto l’età perfetta è quella di entrare in rapporto con gli altri, mentre prima viveva individualmente per se stesso. Il balsamo, col suo profumo, evoca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l’irraggiamento spiritual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che si comunica agli altri, frutto dell’età perfetta della vita spirituale che implica la dimensione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operativo-ministerial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propria della cresi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0"/>
            <a:ext cx="7164360" cy="765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Il ministro del sacramento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Il “ministro </a:t>
            </a:r>
            <a:r>
              <a:rPr b="1" lang="it-IT" sz="3600" spc="-1" strike="noStrike" u="sng">
                <a:solidFill>
                  <a:srgbClr val="ff0000"/>
                </a:solidFill>
                <a:uFillTx/>
                <a:latin typeface="Times New Roman"/>
              </a:rPr>
              <a:t>originario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” è il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vesco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imbolicamente realizz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legame con la prima effusione pentecostale dello Spirito sugli apostoli (</a:t>
            </a:r>
            <a:r>
              <a:rPr b="1" lang="it-IT" sz="3200" spc="-1" strike="noStrike">
                <a:solidFill>
                  <a:srgbClr val="003399"/>
                </a:solidFill>
                <a:latin typeface="Times New Roman"/>
              </a:rPr>
              <a:t>apostolicità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più stretto legame cresimati e Chiesa (</a:t>
            </a:r>
            <a:r>
              <a:rPr b="1" lang="it-IT" sz="3200" spc="-1" strike="noStrike">
                <a:solidFill>
                  <a:srgbClr val="003399"/>
                </a:solidFill>
                <a:latin typeface="Times New Roman"/>
              </a:rPr>
              <a:t>unità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Aspetto ecclesiale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 proprio/specific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iù perfetta/piena incorporazione alla Chi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ministero episcopale vincola più perfetta-mente alla Chiesa in qua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è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entro visibile di unità e cattolicità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della Chi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è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garante dell’unità apostolic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: verifica che questo cresimato potrà offrire una testimo-nianza auten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2) Livello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celebrativo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 = è ministro origina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on solo per intervento fisico del Vesco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a perché presiede in prima persona la Chie-sa locale (altri ministri sono suoi “delegati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IC 882-888: moltiplicato i casi di presbiteri ministri (però è preferibile che ordinariamente sia il vescov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consacrazione del crisma è sempre riservata al Vesco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3) Aspetto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ecclesial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derivato della Cre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it-IT" sz="3200" spc="-1" strike="noStrike">
                <a:solidFill>
                  <a:srgbClr val="003399"/>
                </a:solidFill>
                <a:latin typeface="Times New Roman"/>
              </a:rPr>
              <a:t>testimonianz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(parole – stile di vita evan-gelico – ministeri ecclesial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È </a:t>
            </a:r>
            <a:r>
              <a:rPr b="1" lang="it-IT" sz="3200" spc="-1" strike="noStrike">
                <a:solidFill>
                  <a:srgbClr val="003399"/>
                </a:solidFill>
                <a:latin typeface="Times New Roman"/>
              </a:rPr>
              <a:t>confermata dal vescov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che garantisce la testimonianza di questi cresimand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egativamente: la sottrae dal rischio di errore (eresia) e di divisione interna (sc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ositivamente: la riconosce valida per la vita della Chi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garanzia non è anzitutto di tipo giuridico, ma sacramentale: si fonda sulla comunicazione dello Spirito Santo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3789360"/>
            <a:ext cx="9144000" cy="28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Il ministero del </a:t>
            </a: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padrino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nella Cresi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Il Rituale al n. 5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ffronta la tematica del padrino della Cresima. Ribadita la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convenienz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[“ogni cresimando abbia normalmente il suo padrino”] della figura del padrino ed i suoi compiti pecu-liari, il testo fornisce un’interessante (e nuova) notazione di carattere pastor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ata l’attuale situazione pastorale, è bene che il padrino della Confermazione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ia lo stesso del Battesim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. Così è meglio affermato il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ness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tra il Battesimo e la Confermazione, e l’ufficio e il compito del padrino ne ha più efficace riliev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08000" y="2492280"/>
            <a:ext cx="8964720" cy="2951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4000" spc="-1" strike="noStrike">
                <a:solidFill>
                  <a:srgbClr val="003399"/>
                </a:solidFill>
                <a:latin typeface="Times New Roman"/>
              </a:rPr>
              <a:t>L’unzione con l’olio profum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Rituale di Paolo VI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Il sacramento della confermazione è conferito con </a:t>
            </a: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l’unzione del sacro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crisma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sulla fronte (n. 9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3"/>
          <p:cNvSpPr txBox="1"/>
          <p:nvPr/>
        </p:nvSpPr>
        <p:spPr>
          <a:xfrm>
            <a:off x="838080" y="2362320"/>
            <a:ext cx="7772400" cy="18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ITO DELLA CRESIMA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026"/>
          <p:cNvSpPr/>
          <p:nvPr/>
        </p:nvSpPr>
        <p:spPr>
          <a:xfrm>
            <a:off x="457200" y="1143000"/>
            <a:ext cx="8842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imes New Roman"/>
              </a:rPr>
              <a:t>La Cresima si riceve dal Vescovo della diocesi perché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imes New Roman"/>
              </a:rPr>
              <a:t>egli, quale successore degli apostoli, è garante della continuità della vera Chiesa: una, santa, cattolica e aposto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imes New Roman"/>
              </a:rPr>
              <a:t>Con la Cresima si rinnova la grazia perenne della Penteco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27"/>
          <p:cNvSpPr/>
          <p:nvPr/>
        </p:nvSpPr>
        <p:spPr>
          <a:xfrm>
            <a:off x="457200" y="3886200"/>
            <a:ext cx="944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66"/>
                </a:solidFill>
                <a:latin typeface="Times New Roman"/>
              </a:rPr>
              <a:t>LA CRESIMA o CONFERMAZIONE si riceve,come gl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66"/>
                </a:solidFill>
                <a:latin typeface="Times New Roman"/>
              </a:rPr>
              <a:t>altri sacramenti, dopo la proclamazione della Parola;infat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66"/>
                </a:solidFill>
                <a:latin typeface="Times New Roman"/>
              </a:rPr>
              <a:t>noi siamo cristiani perché Dio ci ha chiamati, ci chiama 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66"/>
                </a:solidFill>
                <a:latin typeface="Times New Roman"/>
              </a:rPr>
              <a:t>ci parla per pri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28"/>
          <p:cNvSpPr/>
          <p:nvPr/>
        </p:nvSpPr>
        <p:spPr>
          <a:xfrm>
            <a:off x="1295280" y="304920"/>
            <a:ext cx="60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ff"/>
                </a:solidFill>
                <a:latin typeface="Times New Roman"/>
              </a:rPr>
              <a:t>DUE DATI IMPORTANTI DA RICORD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660680" y="914400"/>
            <a:ext cx="588312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l rito della Cresima comprende tre par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Rinnovo delle promesse battesim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Invocazione dello Spirito Sa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Unzione con il sacro cri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990720" y="990720"/>
            <a:ext cx="647676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innovo delle promesse battesim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e promesse battesimali dichiari di credere nel Signore Gesù e di voler vivere secondo la Sua Parola, rinunziando alle false seduzioni del mo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mpegno preso dai tuoi genitori e padrini nel Battesimo diventa un tuo impegno,un atto di fede libero e personale che compi davanti a Dio e alla comunità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066680" y="160020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: Rinunciate a satana e a tutte le sue opere e seduzion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inun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.Credete in Dio Padre onnipotente,creatore del cielo e della ter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r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.Credete in Gesù Cristo,suo Unico Figlio, nostro Signore,che nacque da Maria Vergine, morì e fu sepolto,è risuscitato dai morti e siede alla destra del Pad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r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371600" y="558720"/>
            <a:ext cx="6921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.Credete nello Spirito Santo, che è Signore e dà la vita,e che oggi,per mezzo del sacramento della Confermazione è in modo speciale a voi conferito,come già agli Apostoli il giorno di Pentecos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r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 Credete nella santa chiesa cattolic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unione dei santi, la remissione dei peccat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isurrezione della carne e la vita eterna?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.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 Questa è la nostra fe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a è la fede della chie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noi ci gloriamo di professarl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risto Gesù nostro Sign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.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mposizione della mani e invocazione dello Spirito Santo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o segno indica il dono dello Spirito che viene dall’alto,attraverso la mediazione della Chi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questo il vescovo lo compie insieme al tuo parroco e agli altri sacerdoti presen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346480" y="609480"/>
            <a:ext cx="5568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o onnipoten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dre del Signore nostro Gesù Cris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hai rigenerato questi tuoi fig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ll'acqua e dallo Spirito Sa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erandoli dal pecca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ndi in loro il tuo Santo Spirito Paracli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rito di </a:t>
            </a:r>
            <a:r>
              <a:rPr b="1" lang="it-IT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apienz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di </a:t>
            </a:r>
            <a:r>
              <a:rPr b="1" lang="it-IT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tellett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rito di </a:t>
            </a:r>
            <a:r>
              <a:rPr b="1" lang="it-IT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sigli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di </a:t>
            </a:r>
            <a:r>
              <a:rPr b="1" lang="it-IT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ortezz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rito di </a:t>
            </a:r>
            <a:r>
              <a:rPr b="1" lang="it-IT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cienz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di </a:t>
            </a:r>
            <a:r>
              <a:rPr b="1" lang="it-IT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ietà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riempili dello spirito del </a:t>
            </a:r>
            <a:r>
              <a:rPr b="1" lang="it-IT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uo santo timor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Cristo nostro Sign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. A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80880" y="685800"/>
            <a:ext cx="830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l Vescovo mette la mitra e il pastor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C:\Documents and Settings\Administrator\Desktop\mitra.gif"/>
          <p:cNvPicPr/>
          <p:nvPr/>
        </p:nvPicPr>
        <p:blipFill>
          <a:blip r:embed="rId1"/>
          <a:stretch/>
        </p:blipFill>
        <p:spPr>
          <a:xfrm>
            <a:off x="457200" y="1828800"/>
            <a:ext cx="3886200" cy="3429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815840" y="59086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MI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7" descr="C:\Documents and Settings\Administrator\Desktop\pastorale.gif"/>
          <p:cNvPicPr/>
          <p:nvPr/>
        </p:nvPicPr>
        <p:blipFill>
          <a:blip r:embed="rId2"/>
          <a:stretch/>
        </p:blipFill>
        <p:spPr>
          <a:xfrm>
            <a:off x="6172200" y="1295280"/>
            <a:ext cx="1981080" cy="47246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6084000" y="6137280"/>
            <a:ext cx="20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PASTO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Unzione col sacro crism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croce è il segno dell’amore di Dio per l’uomo fino al sacrificio di s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’ lo stesso dono che hai ricevuto nel Battesimo:ora viene conferm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’unzione col crisma indica che lo Spirito penetra dentro di te e ti consacra per continuare la missione profetica, sacerdotale e regale di Cri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scendenze dell’AT per l’un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Unzione per la </a:t>
            </a:r>
            <a:r>
              <a:rPr b="1" lang="it-IT" sz="3000" spc="-1" strike="noStrike">
                <a:solidFill>
                  <a:srgbClr val="003399"/>
                </a:solidFill>
                <a:latin typeface="Times New Roman"/>
              </a:rPr>
              <a:t>consacrazione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 di re e sacerdoti in Israele (1Sam 10,1; 16,3; Lv 4,3;18,12): affinità tra l’olio che penetra e lo Spirito che investe invisibil-mente la personalit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Il salvatore escatologico: l’unto di Dio (Sal 2,2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Significato </a:t>
            </a:r>
            <a:r>
              <a:rPr b="1" lang="it-IT" sz="3000" spc="-1" strike="noStrike">
                <a:solidFill>
                  <a:srgbClr val="003399"/>
                </a:solidFill>
                <a:latin typeface="Times New Roman"/>
              </a:rPr>
              <a:t>agonistico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: massaggio degli atleti (corpo più elastico e viscido alla presa) = </a:t>
            </a:r>
            <a:r>
              <a:rPr b="1" lang="it-IT" sz="3000" spc="-1" strike="noStrike">
                <a:solidFill>
                  <a:srgbClr val="000000"/>
                </a:solidFill>
                <a:latin typeface="Times New Roman"/>
              </a:rPr>
              <a:t>unzione con l’olio dei catecumeni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 per l’ultima lotta contro il Malig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Significato </a:t>
            </a:r>
            <a:r>
              <a:rPr b="1" lang="it-IT" sz="3000" spc="-1" strike="noStrike">
                <a:solidFill>
                  <a:srgbClr val="003399"/>
                </a:solidFill>
                <a:latin typeface="Times New Roman"/>
              </a:rPr>
              <a:t>terapeutico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 (medicamento sulle ferite) = unzione ai </a:t>
            </a:r>
            <a:r>
              <a:rPr b="1" lang="it-IT" sz="3000" spc="-1" strike="noStrike">
                <a:solidFill>
                  <a:srgbClr val="000000"/>
                </a:solidFill>
                <a:latin typeface="Times New Roman"/>
              </a:rPr>
              <a:t>malat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Significato </a:t>
            </a:r>
            <a:r>
              <a:rPr b="0" lang="it-IT" sz="3000" spc="-1" strike="noStrike">
                <a:solidFill>
                  <a:srgbClr val="003399"/>
                </a:solidFill>
                <a:latin typeface="Times New Roman"/>
              </a:rPr>
              <a:t>igenico-estetico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 della profumazione per i riti festivi che indica distensione, vigoria, bellezza = </a:t>
            </a:r>
            <a:r>
              <a:rPr b="1" lang="it-IT" sz="3000" spc="-1" strike="noStrike">
                <a:solidFill>
                  <a:srgbClr val="000000"/>
                </a:solidFill>
                <a:latin typeface="Times New Roman"/>
              </a:rPr>
              <a:t>unzione post-battesimale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 con olio profuma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60948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re il padrino ti pone la mano sulla spalla,dichiari il tuo n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vescovo che lo ripete e d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 ...N... ricevi il </a:t>
            </a:r>
            <a:r>
              <a:rPr b="1" lang="it-IT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gillo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lo Spirito Santo che ti è dato in do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A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 La pace sia con 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E con il tuo spir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segno della pace indica che tu sei reso partecipe della comun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della pace ecclesiale che Cristo dona alla Chi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-14760" y="4419720"/>
            <a:ext cx="868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mezzo di questa unzione il cresimando riceve « il marchio 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sigillo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ello Spirito Santo. Da quel momento è chiamato a vivere 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angelo ogni giorno e ad essere testimone di Ges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026"/>
          <p:cNvSpPr/>
          <p:nvPr/>
        </p:nvSpPr>
        <p:spPr>
          <a:xfrm>
            <a:off x="0" y="1447920"/>
            <a:ext cx="19883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PADRINI/MADRINE SONO, COME I CATECHISTI, DEG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CCOMPAGNATORI E MODELLI DI RIFERIMENTO 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I RAGAZZI/E ,NON COMPARSE CERIMONIALI PER 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O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 LORO VITA CI PRESENTANO UN PÒ DI FED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SPERANZA E DI CARITÀ, CHE SONO IL FRUTTO D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RITO IN NOI,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  <a:ea typeface="Gill Sans MT"/>
              </a:rPr>
              <a:t> SIA DURANTE IL CAMM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  <a:ea typeface="Gill Sans MT"/>
              </a:rPr>
              <a:t>DELL’INIZIAZIONE CRISTIANA CHE NEL SUCCESS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  <a:ea typeface="Gill Sans MT"/>
              </a:rPr>
              <a:t>DISPIEGARSI DELLA VI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COMPITO DEL NOSTRO PADRINO/MADRINA DURER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NDI PER SEMPRE ATTRAVERSO UNA COER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 CRISTIANA, CON LA PREGHIERA E IL CONSIGL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27"/>
          <p:cNvSpPr/>
          <p:nvPr/>
        </p:nvSpPr>
        <p:spPr>
          <a:xfrm>
            <a:off x="593640" y="414360"/>
            <a:ext cx="541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QUAL’E’ IL RUOLO DEL PADRINO E DELLA MADRI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el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risto è l’unto di Yahvé 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Massiah - Christo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, senza unzione materiale ma </a:t>
            </a:r>
            <a:r>
              <a:rPr b="1" lang="it-IT" sz="3200" spc="-1" strike="noStrike">
                <a:solidFill>
                  <a:srgbClr val="003399"/>
                </a:solidFill>
                <a:latin typeface="Times New Roman"/>
              </a:rPr>
              <a:t>unzione in sens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3399"/>
                </a:solidFill>
                <a:latin typeface="Times New Roman"/>
              </a:rPr>
              <a:t>metaforic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: spirituale diretta (Lc 4,18; At 10,38) come già per i profeti dell’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un ampliamento semantico, l’unzione desi-gna </a:t>
            </a:r>
            <a:r>
              <a:rPr b="1" lang="it-IT" sz="3200" spc="-1" strike="noStrike">
                <a:solidFill>
                  <a:srgbClr val="003399"/>
                </a:solidFill>
                <a:latin typeface="Times New Roman"/>
              </a:rPr>
              <a:t>la ricezione del dono dello Spirito da parte del cristiano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“È Dio stesso che ci conferma, insieme a voi, in Cristo, e ci ha conferito l'unzione,” (2Co 1,21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ella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etteratura apocalittic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l sigillo è il mar-chio escatologico degli eletti: segnala visibil-mente quelli destinati alla salvez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08000" y="1197000"/>
            <a:ext cx="8964720" cy="4537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4000" spc="-1" strike="noStrike">
                <a:solidFill>
                  <a:srgbClr val="003399"/>
                </a:solidFill>
                <a:latin typeface="Times New Roman"/>
              </a:rPr>
              <a:t>L’imposizione delle man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L’imposizione delle mani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, fatta dal vescovo e dai presbiteri concelebranti su tutti coloro che devono essere cresimati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esprime il gesto biblico pienamente adatto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 all’intelligenza del popolo cristiano; con esso si invoca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il dono dello Spirit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ituale della Cresim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n. 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Valore polivalente della imposizione delle ma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Investitura in un incarico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l’investitura di Giosuè (</a:t>
            </a:r>
            <a:r>
              <a:rPr b="1" lang="it-IT" sz="3000" spc="-1" strike="noStrike">
                <a:solidFill>
                  <a:srgbClr val="000000"/>
                </a:solidFill>
                <a:latin typeface="Times New Roman"/>
              </a:rPr>
              <a:t>Dt 34,9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); la consacrazione dei leviti (</a:t>
            </a:r>
            <a:r>
              <a:rPr b="1" lang="it-IT" sz="3000" spc="-1" strike="noStrike">
                <a:solidFill>
                  <a:srgbClr val="000000"/>
                </a:solidFill>
                <a:latin typeface="Times New Roman"/>
              </a:rPr>
              <a:t>Num 8,10-11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); la benedizione di Gia-cobbe sui figli di Giuseppe (</a:t>
            </a:r>
            <a:r>
              <a:rPr b="1" lang="it-IT" sz="3000" spc="-1" strike="noStrike">
                <a:solidFill>
                  <a:srgbClr val="000000"/>
                </a:solidFill>
                <a:latin typeface="Times New Roman"/>
              </a:rPr>
              <a:t>Gn 48,l4ss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); identificazione simbolica tra la vittima e l’offerente (</a:t>
            </a:r>
            <a:r>
              <a:rPr b="1" lang="it-IT" sz="3000" spc="-1" strike="noStrike">
                <a:solidFill>
                  <a:srgbClr val="000000"/>
                </a:solidFill>
                <a:latin typeface="Times New Roman"/>
              </a:rPr>
              <a:t>Lv 1,4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Nelle lettere pastorali con questo gesto si assume un </a:t>
            </a:r>
            <a:r>
              <a:rPr b="1" lang="it-IT" sz="3000" spc="-1" strike="noStrike">
                <a:solidFill>
                  <a:srgbClr val="003399"/>
                </a:solidFill>
                <a:latin typeface="Times New Roman"/>
              </a:rPr>
              <a:t>ufficio-ministe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Parallelismo nell’ambito giudaic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era il gesto rituale di autorità con cui i genitori o i rabbini </a:t>
            </a:r>
            <a:r>
              <a:rPr b="1" lang="it-IT" sz="3000" spc="-1" strike="noStrike">
                <a:solidFill>
                  <a:srgbClr val="003399"/>
                </a:solidFill>
                <a:latin typeface="Times New Roman"/>
              </a:rPr>
              <a:t>benedicevano i bambini e comunica-vano qualcosa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 di se stessi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il rito con cui un maestro congedava un discepolo </a:t>
            </a:r>
            <a:r>
              <a:rPr b="0" lang="it-IT" sz="3000" spc="-1" strike="noStrike">
                <a:solidFill>
                  <a:srgbClr val="003399"/>
                </a:solidFill>
                <a:latin typeface="Times New Roman"/>
              </a:rPr>
              <a:t>dopo un congruo tempo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 e un sufficiente appren-dimento della legge, perché fosse egli stesso interprete autorizzato della legge. Il gesto indica la continuità della dottrina che veniva trasmessa</a:t>
            </a:r>
            <a:r>
              <a:rPr b="0" lang="it-IT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b) Gesto di guarig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c 1,30-31; Mc 1,41; Mc 5, 22.41: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capo della sinagoga, di nome Giairo: “vieni a imporle le mani perché sia guarita e viva”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c 6,5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: “non vi potè operare nessun prodigio, ma solo impose le mani a pochi ammalati e li guarì”;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c 16,17-18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: “E questi saranno i segni che accompagneranno quelli che credono: nel mio nome… imporranno le mani ai malati e questi guarirann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Gesù talora nel guarire i malati imponeva le ma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ttraverso la mano egli comunica una forza divina che risana; ma in ogni caso non il gesto guarisce, quasi per magia o una sorta di pranoterapia, bensì l’autorità della parola di Gesù, che può agire anche senza il gesto e a distanz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c) Comunicazione del dono dello Spirito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gata al conferimento di un </a:t>
            </a:r>
            <a:r>
              <a:rPr b="0" lang="it-IT" sz="3200" spc="-1" strike="noStrike">
                <a:solidFill>
                  <a:srgbClr val="003399"/>
                </a:solidFill>
                <a:latin typeface="Times New Roman"/>
              </a:rPr>
              <a:t>ministero ecclesial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1Tm 4,14 (e 2Tm 1,6)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“Non trascurare il carisma che è in te e che ti è stato conferito, in forza di profezia, con l’imposizione delle mani del presbiteri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gata ai riti di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iniziazione/aggregazion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piena alla comunità di Cristo col dono dello Spiri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pecie in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due testi di Atti degli Apost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qui si “intra-vedono” le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adici bibliche del sacramento della Cre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692280"/>
            <a:ext cx="9144000" cy="5761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Times New Roman"/>
              </a:rPr>
              <a:t>Rituale della Confermazion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di Paolo V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sacramento della confermazione è conferito con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’unzione del sacro crisma sulla front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che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i fa con l’imposizione delle man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e con le parole: N, ricevi il sigillo dello Spirito Santo, che ti è dato in dono…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egnato dalla mano del vescovo con l’olio profumat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il battezzato riceve un carattere indelebile, il sigillo del Signore, e nello stesso tempo il dono dello Spirito che lo configura più perfettamente a Cristo e gli conferisce la grazia di diffondere tra gli uomini il buon profumo di Cristo (n. 9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7T12:39:43Z</dcterms:created>
  <dc:creator>cristina</dc:creator>
  <dc:description/>
  <dc:language>en-US</dc:language>
  <cp:lastModifiedBy>Sandra</cp:lastModifiedBy>
  <dcterms:modified xsi:type="dcterms:W3CDTF">2012-06-11T07:12:03Z</dcterms:modified>
  <cp:revision>34</cp:revision>
  <dc:subject/>
  <dc:title>Presentazione di PowerPoint</dc:title>
</cp:coreProperties>
</file>